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6760" y="1240920"/>
            <a:ext cx="446400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76480"/>
            <a:ext cx="5435640" cy="39085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638E-1D23-4568-A742-5D3A2F61E20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0760" y="4776480"/>
            <a:ext cx="543564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egnaposto numero diapositiva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7D0E-8877-4172-872F-FB05D934F28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0760" y="4776480"/>
            <a:ext cx="543564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egnaposto numero diapositiva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CEF2-FD33-4CE6-A2B8-B1B7D367B7E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0760" y="4776480"/>
            <a:ext cx="543564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egnaposto numero diapositiva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DC4B-7D14-492E-A227-99E213C735A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0760" y="4776480"/>
            <a:ext cx="543564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egnaposto numero diapositiva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B8E6-7ECD-4F4D-8191-FB683680BC4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0760" y="4776480"/>
            <a:ext cx="543564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egnaposto numero diapositiva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A725-0FE8-4DC5-9960-6B3391F9BC5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0760" y="4776480"/>
            <a:ext cx="543564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egnaposto numero diapositiva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EB50-98FE-499D-A7C5-9C450D5880C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0760" y="4776480"/>
            <a:ext cx="543564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egnaposto numero diapositiva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289D-1CC0-4F48-AEDC-9355F57D332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0760" y="4776480"/>
            <a:ext cx="543564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egnaposto numero diapositiva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7375-3B9B-4B09-9BD4-023DD1BCEE1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0760" y="4776480"/>
            <a:ext cx="543564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egnaposto numero diapositiva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E67C-52FB-4CA5-94C0-92A62B19599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0760" y="4776480"/>
            <a:ext cx="543564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egnaposto numero diapositiva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1B5F-0C65-47CB-8616-CE052EB041D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76480"/>
            <a:ext cx="543564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egnaposto numero diapositiva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7B70-00CB-457E-AF42-3B618F99856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0760" y="4776480"/>
            <a:ext cx="543564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egnaposto numero diapositiva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691F-6717-43EA-B624-68965337616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0760" y="4776480"/>
            <a:ext cx="543564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egnaposto numero diapositiva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569C-A923-4DB6-A717-5755BA4382D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0760" y="4776480"/>
            <a:ext cx="543564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egnaposto numero diapositiva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74D9-E74A-439D-85F2-EAA37BD8CC7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0760" y="4776480"/>
            <a:ext cx="543564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egnaposto numero diapositiva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947A-79AD-46AA-BC40-2B7D63DB52F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0760" y="4776480"/>
            <a:ext cx="543564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egnaposto numero diapositiva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E054-3D94-4578-8E2F-976838351FD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0760" y="4776480"/>
            <a:ext cx="543564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egnaposto numero diapositiva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6EEF-12BF-46AB-8C2B-340585943D8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0760" y="4776480"/>
            <a:ext cx="543564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egnaposto numero diapositiva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FC03-E7DB-4E02-8760-01B8D03AC74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0760" y="4776480"/>
            <a:ext cx="543564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egnaposto numero diapositiva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3301-445B-47C8-A23E-F53DF0D4241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7FF6-0A67-4507-A69B-EF4D419E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B861-BA09-41D7-82D7-E65EB15C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EA24-7CF7-4B23-8F47-0066DCD4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BEB1-4D9A-4FED-B8EF-24B450BE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14B0-019E-4C2B-A54A-F81DC4BD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F771-A444-4349-995B-E08AB44A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D00D-FF5A-4507-A553-FB19320E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09A0-2B70-4BC9-BC19-52FDDB89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B8E1-F427-408E-8183-D0D0C9A8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D633-C2D2-4DCE-A549-DEE59FBD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F2EF-5E63-4B77-96AE-645B0657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3C13-786C-41C6-AA66-FD5F4EA0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DB56-70A5-48B3-B16A-5701AADCBA09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6DD9-96F2-4B82-BF49-502681146FA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tangolo 3"/>
          <p:cNvSpPr/>
          <p:nvPr/>
        </p:nvSpPr>
        <p:spPr>
          <a:xfrm>
            <a:off x="0" y="19080"/>
            <a:ext cx="9144000" cy="6916680"/>
          </a:xfrm>
          <a:prstGeom prst="rect">
            <a:avLst/>
          </a:prstGeom>
          <a:solidFill>
            <a:srgbClr val="005eb8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mmagine 5" descr=""/>
          <p:cNvPicPr/>
          <p:nvPr/>
        </p:nvPicPr>
        <p:blipFill>
          <a:blip r:embed="rId1"/>
          <a:stretch/>
        </p:blipFill>
        <p:spPr>
          <a:xfrm>
            <a:off x="3328920" y="1130400"/>
            <a:ext cx="2486160" cy="941400"/>
          </a:xfrm>
          <a:prstGeom prst="rect">
            <a:avLst/>
          </a:prstGeom>
          <a:ln w="0">
            <a:noFill/>
          </a:ln>
        </p:spPr>
      </p:pic>
      <p:sp>
        <p:nvSpPr>
          <p:cNvPr id="50" name="CasellaDiTesto 4"/>
          <p:cNvSpPr/>
          <p:nvPr/>
        </p:nvSpPr>
        <p:spPr>
          <a:xfrm>
            <a:off x="393840" y="2467080"/>
            <a:ext cx="83563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ORGANI ACCADEMICI E PROVVEDIMENTI AMMINISTRATIVI PRESSO L’UNIVERSITA’ DI PAR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GUIDA PER UN CONTROLLO FINALE DEL TESTO 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FORME DI CITAZIONE DI ATTI NORMATI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Parma, 15-22 Novembre 2018</a:t>
            </a: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              U.O. Programmazione, Organi 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Affari Istituzionali</a:t>
            </a: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asellaDiTesto 1"/>
          <p:cNvSpPr/>
          <p:nvPr/>
        </p:nvSpPr>
        <p:spPr>
          <a:xfrm>
            <a:off x="7229520" y="40968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All.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ttangolo 4"/>
          <p:cNvSpPr/>
          <p:nvPr/>
        </p:nvSpPr>
        <p:spPr>
          <a:xfrm>
            <a:off x="3240" y="6083280"/>
            <a:ext cx="9144000" cy="766800"/>
          </a:xfrm>
          <a:prstGeom prst="rect">
            <a:avLst/>
          </a:prstGeom>
          <a:solidFill>
            <a:srgbClr val="005eb8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magine 8" descr=""/>
          <p:cNvPicPr/>
          <p:nvPr/>
        </p:nvPicPr>
        <p:blipFill>
          <a:blip r:embed="rId1"/>
          <a:stretch/>
        </p:blipFill>
        <p:spPr>
          <a:xfrm>
            <a:off x="7481880" y="6219720"/>
            <a:ext cx="1548000" cy="493920"/>
          </a:xfrm>
          <a:prstGeom prst="rect">
            <a:avLst/>
          </a:prstGeom>
          <a:ln w="0">
            <a:noFill/>
          </a:ln>
        </p:spPr>
      </p:pic>
      <p:sp>
        <p:nvSpPr>
          <p:cNvPr id="96" name="Figura a mano libera 10"/>
          <p:cNvSpPr/>
          <p:nvPr/>
        </p:nvSpPr>
        <p:spPr>
          <a:xfrm>
            <a:off x="3413160" y="372960"/>
            <a:ext cx="2236680" cy="1739880"/>
          </a:xfrm>
          <a:custGeom>
            <a:avLst/>
            <a:gdLst/>
            <a:ahLst/>
            <a:rect l="l" t="t" r="r" b="b"/>
            <a:pathLst>
              <a:path w="2236094" h="1739378">
                <a:moveTo>
                  <a:pt x="0" y="0"/>
                </a:moveTo>
                <a:lnTo>
                  <a:pt x="2236094" y="0"/>
                </a:lnTo>
                <a:lnTo>
                  <a:pt x="2236094" y="1739378"/>
                </a:lnTo>
                <a:lnTo>
                  <a:pt x="0" y="173937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CasellaDiTesto 2"/>
          <p:cNvSpPr/>
          <p:nvPr/>
        </p:nvSpPr>
        <p:spPr>
          <a:xfrm>
            <a:off x="773280" y="290520"/>
            <a:ext cx="7465680" cy="57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decreto del Presidente della Giunta regional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 del Presidente della Giunta regionale 13 agosto 2007, n. 2 </a:t>
            </a:r>
            <a:r>
              <a:rPr b="0" i="1" lang="it-IT" sz="1500" spc="-1" strike="noStrike">
                <a:solidFill>
                  <a:srgbClr val="2e75b6"/>
                </a:solidFill>
                <a:latin typeface="Calibri"/>
              </a:rPr>
              <a:t>(titol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.p.g.r. 2/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 del Presidente della Giunta regionale 2/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 del Presidente della Giunta regionale n. 2 del 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decreto del Presidente della Region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 del Presidente della Regione 27 settembre 2007, n. 310 </a:t>
            </a:r>
            <a:r>
              <a:rPr b="0" i="1" lang="it-IT" sz="1500" spc="-1" strike="noStrike">
                <a:solidFill>
                  <a:srgbClr val="2e75b6"/>
                </a:solidFill>
                <a:latin typeface="Calibri"/>
              </a:rPr>
              <a:t>(titol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.p.reg. 310/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 del Presidente della Regione 310/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 del Presidente della Regione n. 310 del 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decreto dell’assessore regionale </a:t>
            </a: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(o altr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 dell’Assessore regionale alla Salute 10 marzo 2006, n. 225 </a:t>
            </a:r>
            <a:r>
              <a:rPr b="0" i="1" lang="it-IT" sz="1500" spc="-1" strike="noStrike">
                <a:solidFill>
                  <a:srgbClr val="2e75b6"/>
                </a:solidFill>
                <a:latin typeface="Calibri"/>
              </a:rPr>
              <a:t>(titol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 dell’Assessore regionale alla Salute 225/200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 dell’Assessore regionale alla Salute n. 225 del 200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regolamenti CEE (ed EURATOM) – prima del 1° gennaio 196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egolamento n. 19 della Commissione della CEE del 31 dicembre 1962, relativo a 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egolamento 19/62 della CE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egolamento 19 del 1962 della CE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regolamenti CEE (ed EURATOM) – prima del 1° gennaio 196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egolamento n. 1068/67/CEE della Commissione, del 31 dicembre 1967, relativo a 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egolamento 1068/67/CE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egolamento n. 1068/67 della CE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CasellaDiTesto 18"/>
          <p:cNvSpPr/>
          <p:nvPr/>
        </p:nvSpPr>
        <p:spPr>
          <a:xfrm>
            <a:off x="108000" y="6192720"/>
            <a:ext cx="462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ORGANI ACCADEMICI E PROVVEDIMENTI AMMINISTRATIVI PRESSO L’UNIVERSITA’ DI PAR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ttangolo 4"/>
          <p:cNvSpPr/>
          <p:nvPr/>
        </p:nvSpPr>
        <p:spPr>
          <a:xfrm>
            <a:off x="3240" y="6083280"/>
            <a:ext cx="9144000" cy="766800"/>
          </a:xfrm>
          <a:prstGeom prst="rect">
            <a:avLst/>
          </a:prstGeom>
          <a:solidFill>
            <a:srgbClr val="005eb8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magine 8" descr=""/>
          <p:cNvPicPr/>
          <p:nvPr/>
        </p:nvPicPr>
        <p:blipFill>
          <a:blip r:embed="rId1"/>
          <a:stretch/>
        </p:blipFill>
        <p:spPr>
          <a:xfrm>
            <a:off x="7481880" y="6219720"/>
            <a:ext cx="1548000" cy="493920"/>
          </a:xfrm>
          <a:prstGeom prst="rect">
            <a:avLst/>
          </a:prstGeom>
          <a:ln w="0">
            <a:noFill/>
          </a:ln>
        </p:spPr>
      </p:pic>
      <p:sp>
        <p:nvSpPr>
          <p:cNvPr id="101" name="Figura a mano libera 10"/>
          <p:cNvSpPr/>
          <p:nvPr/>
        </p:nvSpPr>
        <p:spPr>
          <a:xfrm>
            <a:off x="3413160" y="372960"/>
            <a:ext cx="2236680" cy="1739880"/>
          </a:xfrm>
          <a:custGeom>
            <a:avLst/>
            <a:gdLst/>
            <a:ahLst/>
            <a:rect l="l" t="t" r="r" b="b"/>
            <a:pathLst>
              <a:path w="2236094" h="1739378">
                <a:moveTo>
                  <a:pt x="0" y="0"/>
                </a:moveTo>
                <a:lnTo>
                  <a:pt x="2236094" y="0"/>
                </a:lnTo>
                <a:lnTo>
                  <a:pt x="2236094" y="1739378"/>
                </a:lnTo>
                <a:lnTo>
                  <a:pt x="0" y="173937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asellaDiTesto 2"/>
          <p:cNvSpPr/>
          <p:nvPr/>
        </p:nvSpPr>
        <p:spPr>
          <a:xfrm>
            <a:off x="773280" y="372960"/>
            <a:ext cx="7561080" cy="54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regolamenti CEE (ed EURATOM) – prima del 1° novembre 199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egolamento (CEE) n. 3013/81 della Commissione, del 19 ottobre 1981, relativo a 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egolamento (CEE) 3013/8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egolamento (CEE) n. 3013/8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regolamenti CEE (ed EURATOM) – prima del 1° gennaio 199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egolamento (CE) n. 737/95 del Consiglio, del 26 aprile 1995, relativo a 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egolamento (CE) 737/95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egolamento (CE) n. 737/9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regolamenti CEE (ed EURATOM) – dopo il 1° gennaio 199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egolamento (CE) n. 1/1999 della Commissione, del 5 marzo 1999, che modifica ..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egolamento (CE) 1/1999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egolamento (CE) n. 1/199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decisioni e raccomandazioni CEC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isione n. 2804/81/CECA ..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isione 2804/81/CECA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isione n. 2804/81/CEC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decisioni e raccomandazioni CEC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accomandazione n. 1997/81/CECA ..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accomandazione 1997/81/CECA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accomandazione n. 1997/81/CEC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asellaDiTesto 18"/>
          <p:cNvSpPr/>
          <p:nvPr/>
        </p:nvSpPr>
        <p:spPr>
          <a:xfrm>
            <a:off x="108000" y="6192720"/>
            <a:ext cx="462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ORGANI ACCADEMICI E PROVVEDIMENTI AMMINISTRATIVI PRESSO L’UNIVERSITA’ DI PAR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ttangolo 4"/>
          <p:cNvSpPr/>
          <p:nvPr/>
        </p:nvSpPr>
        <p:spPr>
          <a:xfrm>
            <a:off x="3240" y="6083280"/>
            <a:ext cx="9144000" cy="766800"/>
          </a:xfrm>
          <a:prstGeom prst="rect">
            <a:avLst/>
          </a:prstGeom>
          <a:solidFill>
            <a:srgbClr val="005eb8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Immagine 8" descr=""/>
          <p:cNvPicPr/>
          <p:nvPr/>
        </p:nvPicPr>
        <p:blipFill>
          <a:blip r:embed="rId1"/>
          <a:stretch/>
        </p:blipFill>
        <p:spPr>
          <a:xfrm>
            <a:off x="7481880" y="6219720"/>
            <a:ext cx="1548000" cy="493920"/>
          </a:xfrm>
          <a:prstGeom prst="rect">
            <a:avLst/>
          </a:prstGeom>
          <a:ln w="0">
            <a:noFill/>
          </a:ln>
        </p:spPr>
      </p:pic>
      <p:sp>
        <p:nvSpPr>
          <p:cNvPr id="106" name="Figura a mano libera 10"/>
          <p:cNvSpPr/>
          <p:nvPr/>
        </p:nvSpPr>
        <p:spPr>
          <a:xfrm>
            <a:off x="3413160" y="372960"/>
            <a:ext cx="2236680" cy="1739880"/>
          </a:xfrm>
          <a:custGeom>
            <a:avLst/>
            <a:gdLst/>
            <a:ahLst/>
            <a:rect l="l" t="t" r="r" b="b"/>
            <a:pathLst>
              <a:path w="2236094" h="1739378">
                <a:moveTo>
                  <a:pt x="0" y="0"/>
                </a:moveTo>
                <a:lnTo>
                  <a:pt x="2236094" y="0"/>
                </a:lnTo>
                <a:lnTo>
                  <a:pt x="2236094" y="1739378"/>
                </a:lnTo>
                <a:lnTo>
                  <a:pt x="0" y="173937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asellaDiTesto 2"/>
          <p:cNvSpPr/>
          <p:nvPr/>
        </p:nvSpPr>
        <p:spPr>
          <a:xfrm>
            <a:off x="744480" y="714240"/>
            <a:ext cx="7666200" cy="46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direttive, decisioni, raccomandazioni CEE (ed EURAT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irettiva 89/438/CEE del Consiglio, del 21 giugno 1989, relativa a 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irettiva 89/438/CE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irettiva n. 89/438/CE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direttive, decisioni, raccomandazioni CEE (ed EURAT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isione 89/430/CEE della Commissione, del 30 giugno 1989, relativa a 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isione 89/430/CE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isione n. 89/430/CE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direttive, decisioni, raccomandazioni CEE (ed EURATOM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accomandazione 89/21/CEE della Commissione, del 24 febbraio 1989, relativa a 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accomandazione 89/21/CE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accomandazione n. 89/21/CE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atti internazional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Convenzione relativa alla conservazione della vita selvatica e dell’ambiente naturale in Europa, firmata a Berna il 19 settembre 1979, ratificata ai sensi della legge 5 agosto 1981, n. 50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Convenzione di Berna di cui alla l. 503/198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... di cui alla legge 503/198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... di cui alla legge n. 503 del 198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CasellaDiTesto 18"/>
          <p:cNvSpPr/>
          <p:nvPr/>
        </p:nvSpPr>
        <p:spPr>
          <a:xfrm>
            <a:off x="108000" y="6183360"/>
            <a:ext cx="462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ORGANI ACCADEMICI E PROVVEDIMENTI AMMINISTRATIVI PRESSO L’UNIVERSITA’ DI PAR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uppo 12"/>
          <p:cNvGrpSpPr/>
          <p:nvPr/>
        </p:nvGrpSpPr>
        <p:grpSpPr>
          <a:xfrm>
            <a:off x="0" y="6149880"/>
            <a:ext cx="9144000" cy="766800"/>
            <a:chOff x="0" y="6149880"/>
            <a:chExt cx="9144000" cy="766800"/>
          </a:xfrm>
        </p:grpSpPr>
        <p:sp>
          <p:nvSpPr>
            <p:cNvPr id="110" name="Rettangolo 4"/>
            <p:cNvSpPr/>
            <p:nvPr/>
          </p:nvSpPr>
          <p:spPr>
            <a:xfrm>
              <a:off x="0" y="6149880"/>
              <a:ext cx="9144000" cy="766800"/>
            </a:xfrm>
            <a:prstGeom prst="rect">
              <a:avLst/>
            </a:prstGeom>
            <a:solidFill>
              <a:srgbClr val="005eb8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1" name="Immagine 8" descr=""/>
            <p:cNvPicPr/>
            <p:nvPr/>
          </p:nvPicPr>
          <p:blipFill>
            <a:blip r:embed="rId1"/>
            <a:stretch/>
          </p:blipFill>
          <p:spPr>
            <a:xfrm>
              <a:off x="7479360" y="6286320"/>
              <a:ext cx="1547280" cy="49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CasellaDiTesto 2"/>
          <p:cNvSpPr/>
          <p:nvPr/>
        </p:nvSpPr>
        <p:spPr>
          <a:xfrm>
            <a:off x="279360" y="2557440"/>
            <a:ext cx="8577360" cy="16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e75b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2e75b6"/>
                </a:solidFill>
                <a:uFillTx/>
                <a:latin typeface="Calibri"/>
              </a:rPr>
              <a:t>Forme di citazione di parti degli atti normativ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e75b6"/>
                </a:solidFill>
                <a:latin typeface="Calibri"/>
              </a:rPr>
              <a:t>In grassetto è indicato il tipo di partizione citata e la forma di citazione è  contrassegnata dal simbolo </a:t>
            </a:r>
            <a:r>
              <a:rPr b="1" lang="it-IT" sz="2000" spc="-1" strike="noStrike">
                <a:solidFill>
                  <a:srgbClr val="2e75b6"/>
                </a:solidFill>
                <a:latin typeface="Calibri"/>
              </a:rPr>
              <a:t>#</a:t>
            </a:r>
            <a:r>
              <a:rPr b="0" lang="it-IT" sz="2000" spc="-1" strike="noStrike">
                <a:solidFill>
                  <a:srgbClr val="2e75b6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Gruppo 13"/>
          <p:cNvGrpSpPr/>
          <p:nvPr/>
        </p:nvGrpSpPr>
        <p:grpSpPr>
          <a:xfrm>
            <a:off x="1635480" y="946080"/>
            <a:ext cx="5555880" cy="424080"/>
            <a:chOff x="1635480" y="946080"/>
            <a:chExt cx="5555880" cy="424080"/>
          </a:xfrm>
        </p:grpSpPr>
        <p:sp>
          <p:nvSpPr>
            <p:cNvPr id="114" name="Rettangolo 9"/>
            <p:cNvSpPr/>
            <p:nvPr/>
          </p:nvSpPr>
          <p:spPr>
            <a:xfrm>
              <a:off x="1635480" y="962640"/>
              <a:ext cx="49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5eb8"/>
                  </a:solidFill>
                  <a:latin typeface="Calibri"/>
                </a:rPr>
                <a:t>FORME DI CITAZIONE DEGLI ATTI NORMATIV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Connettore 1 12"/>
            <p:cNvSpPr/>
            <p:nvPr/>
          </p:nvSpPr>
          <p:spPr>
            <a:xfrm>
              <a:off x="2282760" y="946080"/>
              <a:ext cx="4908600" cy="0"/>
            </a:xfrm>
            <a:prstGeom prst="line">
              <a:avLst/>
            </a:prstGeom>
            <a:ln w="1908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ttore 1 20"/>
            <p:cNvSpPr/>
            <p:nvPr/>
          </p:nvSpPr>
          <p:spPr>
            <a:xfrm>
              <a:off x="2282760" y="1370160"/>
              <a:ext cx="4908600" cy="0"/>
            </a:xfrm>
            <a:prstGeom prst="line">
              <a:avLst/>
            </a:prstGeom>
            <a:ln w="1908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CasellaDiTesto 18"/>
          <p:cNvSpPr/>
          <p:nvPr/>
        </p:nvSpPr>
        <p:spPr>
          <a:xfrm>
            <a:off x="108000" y="6240600"/>
            <a:ext cx="462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ORGANI ACCADEMICI E PROVVEDIMENTI AMMINISTRATIVI PRESSO L’UNIVERSITA’ DI PAR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ttangolo 4"/>
          <p:cNvSpPr/>
          <p:nvPr/>
        </p:nvSpPr>
        <p:spPr>
          <a:xfrm>
            <a:off x="3240" y="6083280"/>
            <a:ext cx="9144000" cy="766800"/>
          </a:xfrm>
          <a:prstGeom prst="rect">
            <a:avLst/>
          </a:prstGeom>
          <a:solidFill>
            <a:srgbClr val="005eb8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Immagine 8" descr=""/>
          <p:cNvPicPr/>
          <p:nvPr/>
        </p:nvPicPr>
        <p:blipFill>
          <a:blip r:embed="rId1"/>
          <a:stretch/>
        </p:blipFill>
        <p:spPr>
          <a:xfrm>
            <a:off x="7481880" y="6219720"/>
            <a:ext cx="1548000" cy="493920"/>
          </a:xfrm>
          <a:prstGeom prst="rect">
            <a:avLst/>
          </a:prstGeom>
          <a:ln w="0">
            <a:noFill/>
          </a:ln>
        </p:spPr>
      </p:pic>
      <p:sp>
        <p:nvSpPr>
          <p:cNvPr id="120" name="Figura a mano libera 10"/>
          <p:cNvSpPr/>
          <p:nvPr/>
        </p:nvSpPr>
        <p:spPr>
          <a:xfrm>
            <a:off x="3413160" y="372960"/>
            <a:ext cx="2236680" cy="1739880"/>
          </a:xfrm>
          <a:custGeom>
            <a:avLst/>
            <a:gdLst/>
            <a:ahLst/>
            <a:rect l="l" t="t" r="r" b="b"/>
            <a:pathLst>
              <a:path w="2236094" h="1739378">
                <a:moveTo>
                  <a:pt x="0" y="0"/>
                </a:moveTo>
                <a:lnTo>
                  <a:pt x="2236094" y="0"/>
                </a:lnTo>
                <a:lnTo>
                  <a:pt x="2236094" y="1739378"/>
                </a:lnTo>
                <a:lnTo>
                  <a:pt x="0" y="173937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asellaDiTesto 2"/>
          <p:cNvSpPr/>
          <p:nvPr/>
        </p:nvSpPr>
        <p:spPr>
          <a:xfrm>
            <a:off x="846000" y="755640"/>
            <a:ext cx="7512120" cy="52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libr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libro I (Disposizioni generali) del codice di procedura civile (nei successivi esempi la menzione della rubrica è omessa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parte (all’interno di un libr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libro I, parte I, della legg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part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parte I della legg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titolo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titolo I della legg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capo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capo I della legg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sezion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capo I, sezione I, della legg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articol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articolo 1 della legg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comma – prima ipotes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articolo 1, comma primo (</a:t>
            </a:r>
            <a:r>
              <a:rPr b="0" i="1" lang="it-IT" sz="1500" spc="-1" strike="noStrike">
                <a:solidFill>
                  <a:srgbClr val="2e75b6"/>
                </a:solidFill>
                <a:latin typeface="Calibri"/>
              </a:rPr>
              <a:t>oppure</a:t>
            </a: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: primo comma), della legge (se nel testo originario i commi non sono numerati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asellaDiTesto 18"/>
          <p:cNvSpPr/>
          <p:nvPr/>
        </p:nvSpPr>
        <p:spPr>
          <a:xfrm>
            <a:off x="108000" y="6192720"/>
            <a:ext cx="462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ORGANI ACCADEMICI E PROVVEDIMENTI AMMINISTRATIVI PRESSO L’UNIVERSITA’ DI PAR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egnaposto piè di pagina 1"/>
          <p:cNvSpPr/>
          <p:nvPr/>
        </p:nvSpPr>
        <p:spPr>
          <a:xfrm>
            <a:off x="6489720" y="6093000"/>
            <a:ext cx="96192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ttangolo 1"/>
          <p:cNvSpPr/>
          <p:nvPr/>
        </p:nvSpPr>
        <p:spPr>
          <a:xfrm>
            <a:off x="3625560" y="289080"/>
            <a:ext cx="195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2e75b6"/>
                </a:solidFill>
                <a:latin typeface="Calibri"/>
              </a:rPr>
              <a:t>Singole partizio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ttangolo 4"/>
          <p:cNvSpPr/>
          <p:nvPr/>
        </p:nvSpPr>
        <p:spPr>
          <a:xfrm>
            <a:off x="3240" y="6083280"/>
            <a:ext cx="9144000" cy="766800"/>
          </a:xfrm>
          <a:prstGeom prst="rect">
            <a:avLst/>
          </a:prstGeom>
          <a:solidFill>
            <a:srgbClr val="005eb8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Immagine 8" descr=""/>
          <p:cNvPicPr/>
          <p:nvPr/>
        </p:nvPicPr>
        <p:blipFill>
          <a:blip r:embed="rId1"/>
          <a:stretch/>
        </p:blipFill>
        <p:spPr>
          <a:xfrm>
            <a:off x="7481880" y="6219720"/>
            <a:ext cx="1548000" cy="493920"/>
          </a:xfrm>
          <a:prstGeom prst="rect">
            <a:avLst/>
          </a:prstGeom>
          <a:ln w="0">
            <a:noFill/>
          </a:ln>
        </p:spPr>
      </p:pic>
      <p:sp>
        <p:nvSpPr>
          <p:cNvPr id="127" name="Figura a mano libera 10"/>
          <p:cNvSpPr/>
          <p:nvPr/>
        </p:nvSpPr>
        <p:spPr>
          <a:xfrm>
            <a:off x="3413160" y="372960"/>
            <a:ext cx="2236680" cy="1739880"/>
          </a:xfrm>
          <a:custGeom>
            <a:avLst/>
            <a:gdLst/>
            <a:ahLst/>
            <a:rect l="l" t="t" r="r" b="b"/>
            <a:pathLst>
              <a:path w="2236094" h="1739378">
                <a:moveTo>
                  <a:pt x="0" y="0"/>
                </a:moveTo>
                <a:lnTo>
                  <a:pt x="2236094" y="0"/>
                </a:lnTo>
                <a:lnTo>
                  <a:pt x="2236094" y="1739378"/>
                </a:lnTo>
                <a:lnTo>
                  <a:pt x="0" y="173937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asellaDiTesto 2"/>
          <p:cNvSpPr/>
          <p:nvPr/>
        </p:nvSpPr>
        <p:spPr>
          <a:xfrm>
            <a:off x="878040" y="426960"/>
            <a:ext cx="7360920" cy="53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comma – seconda ipotes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articolo 1, comma 1, della legge (se nel testo originario i commi sono numerati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letter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articolo 1, comma 1, lettera a), della legg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numer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articolo 1, comma 1, lettera a), numero 1), della legg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articolo aggiuntiv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articolo 1 bis della legg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articolo 1 bis 1 della legg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articolo 01 della legg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comma aggiuntivo (numerat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articolo 1, comma 1 bis, della legg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articolo 1, comma 1 bis 1, della legg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articolo 2, comma 01, della legg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lettere e numeri aggiuntiv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articolo 1, comma 1, lettera a bis), della legg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articolo 1, comma 1, lettera a), numero 1 bis) della legg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allegat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allegato A della legg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asellaDiTesto 18"/>
          <p:cNvSpPr/>
          <p:nvPr/>
        </p:nvSpPr>
        <p:spPr>
          <a:xfrm>
            <a:off x="108000" y="6183360"/>
            <a:ext cx="462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ORGANI ACCADEMICI E PROVVEDIMENTI AMMINISTRATIVI PRESSO L’UNIVERSITA’ DI PAR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ttangolo 4"/>
          <p:cNvSpPr/>
          <p:nvPr/>
        </p:nvSpPr>
        <p:spPr>
          <a:xfrm>
            <a:off x="3240" y="6083280"/>
            <a:ext cx="9144000" cy="766800"/>
          </a:xfrm>
          <a:prstGeom prst="rect">
            <a:avLst/>
          </a:prstGeom>
          <a:solidFill>
            <a:srgbClr val="005eb8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Immagine 8" descr=""/>
          <p:cNvPicPr/>
          <p:nvPr/>
        </p:nvPicPr>
        <p:blipFill>
          <a:blip r:embed="rId1"/>
          <a:stretch/>
        </p:blipFill>
        <p:spPr>
          <a:xfrm>
            <a:off x="7481880" y="6219720"/>
            <a:ext cx="1548000" cy="493920"/>
          </a:xfrm>
          <a:prstGeom prst="rect">
            <a:avLst/>
          </a:prstGeom>
          <a:ln w="0">
            <a:noFill/>
          </a:ln>
        </p:spPr>
      </p:pic>
      <p:sp>
        <p:nvSpPr>
          <p:cNvPr id="132" name="Figura a mano libera 10"/>
          <p:cNvSpPr/>
          <p:nvPr/>
        </p:nvSpPr>
        <p:spPr>
          <a:xfrm>
            <a:off x="3413160" y="372960"/>
            <a:ext cx="2236680" cy="1739880"/>
          </a:xfrm>
          <a:custGeom>
            <a:avLst/>
            <a:gdLst/>
            <a:ahLst/>
            <a:rect l="l" t="t" r="r" b="b"/>
            <a:pathLst>
              <a:path w="2236094" h="1739378">
                <a:moveTo>
                  <a:pt x="0" y="0"/>
                </a:moveTo>
                <a:lnTo>
                  <a:pt x="2236094" y="0"/>
                </a:lnTo>
                <a:lnTo>
                  <a:pt x="2236094" y="1739378"/>
                </a:lnTo>
                <a:lnTo>
                  <a:pt x="0" y="173937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CasellaDiTesto 2"/>
          <p:cNvSpPr/>
          <p:nvPr/>
        </p:nvSpPr>
        <p:spPr>
          <a:xfrm>
            <a:off x="763560" y="585720"/>
            <a:ext cx="7543800" cy="49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2e75b6"/>
                </a:solidFill>
                <a:latin typeface="Calibri"/>
              </a:rPr>
              <a:t>Enumerazione di partizio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articol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articoli 1 e 2 della legg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articoli 1, 4 e 9 della legg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articoli da 1 a 9 della legg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articoli da 1 a 4 e 9 della legg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articoli e comm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articolo 1, articolo 2, commi 2 e 3, e articoli da 3 a 5 della legg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2e75b6"/>
                </a:solidFill>
                <a:latin typeface="Calibri"/>
              </a:rPr>
              <a:t>Articoli di atti generalmente no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articolo della Costituzio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2e75b6"/>
                </a:solidFill>
                <a:latin typeface="Calibri"/>
              </a:rPr>
              <a:t>articolo 117 della Costituzi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articolo dello Statuto regiona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2e75b6"/>
                </a:solidFill>
                <a:latin typeface="Calibri"/>
              </a:rPr>
              <a:t>articolo 62 dello Statut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2e75b6"/>
                </a:solidFill>
                <a:latin typeface="Calibri"/>
              </a:rPr>
              <a:t>articolo 62 dello Statuto specia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articolo del codice civile (di procedura civile, penale, di procedura penal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2e75b6"/>
                </a:solidFill>
                <a:latin typeface="Calibri"/>
              </a:rPr>
              <a:t>articolo 15 del codice civile (di procedura civile, penale, di procedura pena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CasellaDiTesto 18"/>
          <p:cNvSpPr/>
          <p:nvPr/>
        </p:nvSpPr>
        <p:spPr>
          <a:xfrm>
            <a:off x="108000" y="6202440"/>
            <a:ext cx="462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ORGANI ACCADEMICI E PROVVEDIMENTI AMMINISTRATIVI PRESSO L’UNIVERSITA’ DI PAR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egnaposto piè di pagina 1"/>
          <p:cNvSpPr/>
          <p:nvPr/>
        </p:nvSpPr>
        <p:spPr>
          <a:xfrm>
            <a:off x="6489720" y="6093000"/>
            <a:ext cx="96192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ttangolo 4"/>
          <p:cNvSpPr/>
          <p:nvPr/>
        </p:nvSpPr>
        <p:spPr>
          <a:xfrm>
            <a:off x="3240" y="6083280"/>
            <a:ext cx="9144000" cy="766800"/>
          </a:xfrm>
          <a:prstGeom prst="rect">
            <a:avLst/>
          </a:prstGeom>
          <a:solidFill>
            <a:srgbClr val="005eb8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magine 8" descr=""/>
          <p:cNvPicPr/>
          <p:nvPr/>
        </p:nvPicPr>
        <p:blipFill>
          <a:blip r:embed="rId1"/>
          <a:stretch/>
        </p:blipFill>
        <p:spPr>
          <a:xfrm>
            <a:off x="7481880" y="6219720"/>
            <a:ext cx="1548000" cy="493920"/>
          </a:xfrm>
          <a:prstGeom prst="rect">
            <a:avLst/>
          </a:prstGeom>
          <a:ln w="0">
            <a:noFill/>
          </a:ln>
        </p:spPr>
      </p:pic>
      <p:sp>
        <p:nvSpPr>
          <p:cNvPr id="138" name="Figura a mano libera 10"/>
          <p:cNvSpPr/>
          <p:nvPr/>
        </p:nvSpPr>
        <p:spPr>
          <a:xfrm>
            <a:off x="3413160" y="372960"/>
            <a:ext cx="2236680" cy="1739880"/>
          </a:xfrm>
          <a:custGeom>
            <a:avLst/>
            <a:gdLst/>
            <a:ahLst/>
            <a:rect l="l" t="t" r="r" b="b"/>
            <a:pathLst>
              <a:path w="2236094" h="1739378">
                <a:moveTo>
                  <a:pt x="0" y="0"/>
                </a:moveTo>
                <a:lnTo>
                  <a:pt x="2236094" y="0"/>
                </a:lnTo>
                <a:lnTo>
                  <a:pt x="2236094" y="1739378"/>
                </a:lnTo>
                <a:lnTo>
                  <a:pt x="0" y="173937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CasellaDiTesto 2"/>
          <p:cNvSpPr/>
          <p:nvPr/>
        </p:nvSpPr>
        <p:spPr>
          <a:xfrm>
            <a:off x="758880" y="1044720"/>
            <a:ext cx="7480080" cy="39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2e75b6"/>
                </a:solidFill>
                <a:latin typeface="Calibri"/>
              </a:rPr>
              <a:t>Partizioni di atti comunita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part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parte 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titol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titolo 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capitol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capitolo 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sezio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sezione 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articol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articolo 1 della direttiva 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paragra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paragrafo 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CasellaDiTesto 18"/>
          <p:cNvSpPr/>
          <p:nvPr/>
        </p:nvSpPr>
        <p:spPr>
          <a:xfrm>
            <a:off x="108000" y="6192720"/>
            <a:ext cx="462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ORGANI ACCADEMICI E PROVVEDIMENTI AMMINISTRATIVI PRESSO L’UNIVERSITA’ DI PAR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uppo 12"/>
          <p:cNvGrpSpPr/>
          <p:nvPr/>
        </p:nvGrpSpPr>
        <p:grpSpPr>
          <a:xfrm>
            <a:off x="0" y="6149880"/>
            <a:ext cx="9144000" cy="766800"/>
            <a:chOff x="0" y="6149880"/>
            <a:chExt cx="9144000" cy="766800"/>
          </a:xfrm>
        </p:grpSpPr>
        <p:sp>
          <p:nvSpPr>
            <p:cNvPr id="142" name="Rettangolo 4"/>
            <p:cNvSpPr/>
            <p:nvPr/>
          </p:nvSpPr>
          <p:spPr>
            <a:xfrm>
              <a:off x="0" y="6149880"/>
              <a:ext cx="9144000" cy="766800"/>
            </a:xfrm>
            <a:prstGeom prst="rect">
              <a:avLst/>
            </a:prstGeom>
            <a:solidFill>
              <a:srgbClr val="005eb8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3" name="Immagine 8" descr=""/>
            <p:cNvPicPr/>
            <p:nvPr/>
          </p:nvPicPr>
          <p:blipFill>
            <a:blip r:embed="rId1"/>
            <a:stretch/>
          </p:blipFill>
          <p:spPr>
            <a:xfrm>
              <a:off x="7479360" y="6286320"/>
              <a:ext cx="1547280" cy="49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CasellaDiTesto 2"/>
          <p:cNvSpPr/>
          <p:nvPr/>
        </p:nvSpPr>
        <p:spPr>
          <a:xfrm>
            <a:off x="385920" y="2924280"/>
            <a:ext cx="83232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00000"/>
              </a:lnSpc>
              <a:buClr>
                <a:srgbClr val="2e75b6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2e75b6"/>
                </a:solidFill>
                <a:uFillTx/>
                <a:latin typeface="Calibri"/>
              </a:rPr>
              <a:t>Forme di citazione delle pubblicazioni uffici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e75b6"/>
                </a:solidFill>
                <a:latin typeface="Calibri"/>
              </a:rPr>
              <a:t>In grassetto è indicata la pubblicazione ufficiale e la forma di citazione è contrassegnata dal simbolo </a:t>
            </a:r>
            <a:r>
              <a:rPr b="1" lang="it-IT" sz="2000" spc="-1" strike="noStrike">
                <a:solidFill>
                  <a:srgbClr val="2e75b6"/>
                </a:solidFill>
                <a:latin typeface="Calibri"/>
              </a:rPr>
              <a:t>#</a:t>
            </a:r>
            <a:r>
              <a:rPr b="0" lang="it-IT" sz="2000" spc="-1" strike="noStrike">
                <a:solidFill>
                  <a:srgbClr val="2e75b6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uppo 13"/>
          <p:cNvGrpSpPr/>
          <p:nvPr/>
        </p:nvGrpSpPr>
        <p:grpSpPr>
          <a:xfrm>
            <a:off x="2257560" y="868320"/>
            <a:ext cx="5032080" cy="426600"/>
            <a:chOff x="2257560" y="868320"/>
            <a:chExt cx="5032080" cy="426600"/>
          </a:xfrm>
        </p:grpSpPr>
        <p:sp>
          <p:nvSpPr>
            <p:cNvPr id="146" name="Rettangolo 9"/>
            <p:cNvSpPr/>
            <p:nvPr/>
          </p:nvSpPr>
          <p:spPr>
            <a:xfrm>
              <a:off x="2257560" y="896040"/>
              <a:ext cx="503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5eb8"/>
                  </a:solidFill>
                  <a:latin typeface="Calibri"/>
                </a:rPr>
                <a:t>FORME DI CITAZIONE DEGLI ATTI NORMATIV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Connettore 1 12"/>
            <p:cNvSpPr/>
            <p:nvPr/>
          </p:nvSpPr>
          <p:spPr>
            <a:xfrm flipV="1">
              <a:off x="2257560" y="868320"/>
              <a:ext cx="4811760" cy="17280"/>
            </a:xfrm>
            <a:prstGeom prst="line">
              <a:avLst/>
            </a:prstGeom>
            <a:ln w="1908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Connettore 1 20"/>
            <p:cNvSpPr/>
            <p:nvPr/>
          </p:nvSpPr>
          <p:spPr>
            <a:xfrm>
              <a:off x="2257560" y="1271520"/>
              <a:ext cx="4803480" cy="0"/>
            </a:xfrm>
            <a:prstGeom prst="line">
              <a:avLst/>
            </a:prstGeom>
            <a:ln w="19080">
              <a:solidFill>
                <a:srgbClr val="4472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CasellaDiTesto 18"/>
          <p:cNvSpPr/>
          <p:nvPr/>
        </p:nvSpPr>
        <p:spPr>
          <a:xfrm>
            <a:off x="108000" y="6240600"/>
            <a:ext cx="462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ORGANI ACCADEMICI E PROVVEDIMENTI AMMINISTRATIVI PRESSO L’UNIVERSITA’ DI PAR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ttangolo 4"/>
          <p:cNvSpPr/>
          <p:nvPr/>
        </p:nvSpPr>
        <p:spPr>
          <a:xfrm>
            <a:off x="3240" y="6083280"/>
            <a:ext cx="9144000" cy="766800"/>
          </a:xfrm>
          <a:prstGeom prst="rect">
            <a:avLst/>
          </a:prstGeom>
          <a:solidFill>
            <a:srgbClr val="005eb8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Immagine 8" descr=""/>
          <p:cNvPicPr/>
          <p:nvPr/>
        </p:nvPicPr>
        <p:blipFill>
          <a:blip r:embed="rId1"/>
          <a:stretch/>
        </p:blipFill>
        <p:spPr>
          <a:xfrm>
            <a:off x="7481880" y="6219720"/>
            <a:ext cx="1548000" cy="493920"/>
          </a:xfrm>
          <a:prstGeom prst="rect">
            <a:avLst/>
          </a:prstGeom>
          <a:ln w="0">
            <a:noFill/>
          </a:ln>
        </p:spPr>
      </p:pic>
      <p:sp>
        <p:nvSpPr>
          <p:cNvPr id="152" name="Figura a mano libera 10"/>
          <p:cNvSpPr/>
          <p:nvPr/>
        </p:nvSpPr>
        <p:spPr>
          <a:xfrm>
            <a:off x="3413160" y="372960"/>
            <a:ext cx="2236680" cy="1739880"/>
          </a:xfrm>
          <a:custGeom>
            <a:avLst/>
            <a:gdLst/>
            <a:ahLst/>
            <a:rect l="l" t="t" r="r" b="b"/>
            <a:pathLst>
              <a:path w="2236094" h="1739378">
                <a:moveTo>
                  <a:pt x="0" y="0"/>
                </a:moveTo>
                <a:lnTo>
                  <a:pt x="2236094" y="0"/>
                </a:lnTo>
                <a:lnTo>
                  <a:pt x="2236094" y="1739378"/>
                </a:lnTo>
                <a:lnTo>
                  <a:pt x="0" y="173937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CasellaDiTesto 2"/>
          <p:cNvSpPr/>
          <p:nvPr/>
        </p:nvSpPr>
        <p:spPr>
          <a:xfrm>
            <a:off x="757080" y="1028880"/>
            <a:ext cx="6809040" cy="40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Gazzetta ufficiale delle Comunità europe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g.u.c.e. serie L 1 del 1° gennaio 1989, p. 25 (la pagina può essere omessa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Gazzetta ufficiale dell’Unione europe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g.u.u.e. L 305 del 23 novembre 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g.u.u.e. C 280 del 23 novembre 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Gazzetta ufficiale della Repubblica italian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g.u. n. 238  del 12 ottobre 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g.u. 12 ottobre 2007, n. 23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g.u. n. 238 del 12 ottobre 2007 serie general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Supplemento ordinari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suppl. ord. n. 14 alla g.u. n. 238 del 12 ottobre 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Bollettino ufficiale della Regio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b.u.r. n. 13 del 28 marzo 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b.u.r. 28 marzo 2007, n. 1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CasellaDiTesto 18"/>
          <p:cNvSpPr/>
          <p:nvPr/>
        </p:nvSpPr>
        <p:spPr>
          <a:xfrm>
            <a:off x="108000" y="6183360"/>
            <a:ext cx="462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ORGANI ACCADEMICI E PROVVEDIMENTI AMMINISTRATIVI PRESSO L’UNIVERSITA’ DI PAR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uppo 12"/>
          <p:cNvGrpSpPr/>
          <p:nvPr/>
        </p:nvGrpSpPr>
        <p:grpSpPr>
          <a:xfrm>
            <a:off x="0" y="6149880"/>
            <a:ext cx="9144000" cy="766800"/>
            <a:chOff x="0" y="6149880"/>
            <a:chExt cx="9144000" cy="766800"/>
          </a:xfrm>
        </p:grpSpPr>
        <p:sp>
          <p:nvSpPr>
            <p:cNvPr id="53" name="Rettangolo 4"/>
            <p:cNvSpPr/>
            <p:nvPr/>
          </p:nvSpPr>
          <p:spPr>
            <a:xfrm>
              <a:off x="0" y="6149880"/>
              <a:ext cx="9144000" cy="766800"/>
            </a:xfrm>
            <a:prstGeom prst="rect">
              <a:avLst/>
            </a:prstGeom>
            <a:solidFill>
              <a:srgbClr val="005eb8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" name="Immagine 8" descr=""/>
            <p:cNvPicPr/>
            <p:nvPr/>
          </p:nvPicPr>
          <p:blipFill>
            <a:blip r:embed="rId1"/>
            <a:stretch/>
          </p:blipFill>
          <p:spPr>
            <a:xfrm>
              <a:off x="7479360" y="6286320"/>
              <a:ext cx="1547280" cy="49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CasellaDiTesto 18"/>
          <p:cNvSpPr/>
          <p:nvPr/>
        </p:nvSpPr>
        <p:spPr>
          <a:xfrm>
            <a:off x="108000" y="6229440"/>
            <a:ext cx="462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IL PROCESSO DECISIONALE E LA COSTRUZION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DEI PROVVEDIMEN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asellaDiTesto 2"/>
          <p:cNvSpPr/>
          <p:nvPr/>
        </p:nvSpPr>
        <p:spPr>
          <a:xfrm>
            <a:off x="303120" y="112680"/>
            <a:ext cx="857736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it-IT" sz="1800" spc="-1" strike="noStrike">
                <a:solidFill>
                  <a:srgbClr val="005eb8"/>
                </a:solidFill>
                <a:latin typeface="Calibri"/>
              </a:rPr>
              <a:t>GUIDA PER UN CONTROLLO FINALE DEL TESTO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0" lang="it-IT" sz="1600" spc="-1" strike="noStrike">
                <a:solidFill>
                  <a:srgbClr val="005eb8"/>
                </a:solidFill>
                <a:latin typeface="Calibri"/>
              </a:rPr>
              <a:t>Dopo aver scritto il testo, è opportuno fare un ultimo controllo finale per vedere se esso rispetta i criteri di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it-IT" sz="1600" spc="-1" strike="noStrike">
                <a:solidFill>
                  <a:srgbClr val="005eb8"/>
                </a:solidFill>
                <a:latin typeface="Calibri"/>
              </a:rPr>
              <a:t>ORDIN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it-IT" sz="1600" spc="-1" strike="noStrike">
                <a:solidFill>
                  <a:srgbClr val="005eb8"/>
                </a:solidFill>
                <a:latin typeface="Calibri"/>
              </a:rPr>
              <a:t>SEMPLICITA’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it-IT" sz="1600" spc="-1" strike="noStrike">
                <a:solidFill>
                  <a:srgbClr val="005eb8"/>
                </a:solidFill>
                <a:latin typeface="Calibri"/>
              </a:rPr>
              <a:t>ESSENZIALITA’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it-IT" sz="1600" spc="-1" strike="noStrike">
                <a:solidFill>
                  <a:srgbClr val="005eb8"/>
                </a:solidFill>
                <a:latin typeface="Calibri"/>
              </a:rPr>
              <a:t>LEGGIBILITA’ MATERI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it-IT" sz="1600" spc="-1" strike="noStrike">
                <a:solidFill>
                  <a:srgbClr val="005eb8"/>
                </a:solidFill>
                <a:latin typeface="Calibri"/>
              </a:rPr>
              <a:t>Un testo è ordinato s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005eb8"/>
              </a:buClr>
              <a:buFont typeface="Wingdings" charset="2"/>
              <a:buChar char="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0" lang="it-IT" sz="1600" spc="-1" strike="noStrike">
                <a:solidFill>
                  <a:srgbClr val="005eb8"/>
                </a:solidFill>
                <a:latin typeface="Calibri"/>
              </a:rPr>
              <a:t>le informazioni in esso contenute rispettano un ordine gerarchico, preciso e sistematico (dalla più importante alla meno importante; dalla più generale alla più particolare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005eb8"/>
              </a:buClr>
              <a:buFont typeface="Wingdings" charset="2"/>
              <a:buChar char="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0" lang="it-IT" sz="1600" spc="-1" strike="noStrike">
                <a:solidFill>
                  <a:srgbClr val="005eb8"/>
                </a:solidFill>
                <a:latin typeface="Calibri"/>
              </a:rPr>
              <a:t>i destinatari, gli obiettivi e il contenuto delle informazioni sono ben chiari a chi scriv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005eb8"/>
              </a:buClr>
              <a:buFont typeface="Wingdings" charset="2"/>
              <a:buChar char="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0" lang="it-IT" sz="1600" spc="-1" strike="noStrike">
                <a:solidFill>
                  <a:srgbClr val="005eb8"/>
                </a:solidFill>
                <a:latin typeface="Calibri"/>
              </a:rPr>
              <a:t>si presenta diviso in pacchetti di informazioni tra loro omogene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005eb8"/>
              </a:buClr>
              <a:buFont typeface="Wingdings" charset="2"/>
              <a:buChar char="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0" lang="it-IT" sz="1600" spc="-1" strike="noStrike">
                <a:solidFill>
                  <a:srgbClr val="005eb8"/>
                </a:solidFill>
                <a:latin typeface="Calibri"/>
              </a:rPr>
              <a:t>non mescola (o alterna) in modo casuale informazioni diverse o disomogene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005eb8"/>
              </a:buClr>
              <a:buFont typeface="Wingdings" charset="2"/>
              <a:buChar char="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0" lang="it-IT" sz="1600" spc="-1" strike="noStrike">
                <a:solidFill>
                  <a:srgbClr val="005eb8"/>
                </a:solidFill>
                <a:latin typeface="Calibri"/>
              </a:rPr>
              <a:t>la stessa cosa (persona, oggetto, operazione ecc.) è chiamata sempre con lo stesso termin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005eb8"/>
              </a:buClr>
              <a:buFont typeface="Wingdings" charset="2"/>
              <a:buChar char="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0" lang="it-IT" sz="1600" spc="-1" strike="noStrike">
                <a:solidFill>
                  <a:srgbClr val="005eb8"/>
                </a:solidFill>
                <a:latin typeface="Calibri"/>
              </a:rPr>
              <a:t>non contiene frasi più lunghe di 20-25 parol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005eb8"/>
              </a:buClr>
              <a:buFont typeface="Wingdings" charset="2"/>
              <a:buChar char="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0" lang="it-IT" sz="1600" spc="-1" strike="noStrike">
                <a:solidFill>
                  <a:srgbClr val="005eb8"/>
                </a:solidFill>
                <a:latin typeface="Calibri"/>
              </a:rPr>
              <a:t>rispetta le regole della grammatica nell’uso della punteggiatur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ttangolo 10"/>
          <p:cNvSpPr/>
          <p:nvPr/>
        </p:nvSpPr>
        <p:spPr>
          <a:xfrm>
            <a:off x="722160" y="5689440"/>
            <a:ext cx="7739280" cy="489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300" spc="-1" strike="noStrike">
                <a:solidFill>
                  <a:srgbClr val="005eb8"/>
                </a:solidFill>
                <a:latin typeface="Calibri"/>
              </a:rPr>
              <a:t>La guida è tratta dal Manuale di stile del Dipartimento della Funzione pubblica della Presidenza del Consiglio dei ministri, a cura di Alfredo Fiorito (1997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uppo 12"/>
          <p:cNvGrpSpPr/>
          <p:nvPr/>
        </p:nvGrpSpPr>
        <p:grpSpPr>
          <a:xfrm>
            <a:off x="0" y="6149880"/>
            <a:ext cx="9144000" cy="766800"/>
            <a:chOff x="0" y="6149880"/>
            <a:chExt cx="9144000" cy="766800"/>
          </a:xfrm>
        </p:grpSpPr>
        <p:sp>
          <p:nvSpPr>
            <p:cNvPr id="59" name="Rettangolo 4"/>
            <p:cNvSpPr/>
            <p:nvPr/>
          </p:nvSpPr>
          <p:spPr>
            <a:xfrm>
              <a:off x="0" y="6149880"/>
              <a:ext cx="9144000" cy="766800"/>
            </a:xfrm>
            <a:prstGeom prst="rect">
              <a:avLst/>
            </a:prstGeom>
            <a:solidFill>
              <a:srgbClr val="005eb8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0" name="Immagine 8" descr=""/>
            <p:cNvPicPr/>
            <p:nvPr/>
          </p:nvPicPr>
          <p:blipFill>
            <a:blip r:embed="rId1"/>
            <a:stretch/>
          </p:blipFill>
          <p:spPr>
            <a:xfrm>
              <a:off x="7479360" y="6286320"/>
              <a:ext cx="1547280" cy="49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CasellaDiTesto 18"/>
          <p:cNvSpPr/>
          <p:nvPr/>
        </p:nvSpPr>
        <p:spPr>
          <a:xfrm>
            <a:off x="108000" y="6229440"/>
            <a:ext cx="462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IL PROCESSO DECISIONALE E LA COSTRUZION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DEI PROVVEDIMEN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asellaDiTesto 2"/>
          <p:cNvSpPr/>
          <p:nvPr/>
        </p:nvSpPr>
        <p:spPr>
          <a:xfrm>
            <a:off x="816120" y="627120"/>
            <a:ext cx="7581600" cy="52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it-IT" sz="1600" spc="-1" strike="noStrike">
                <a:solidFill>
                  <a:srgbClr val="005eb8"/>
                </a:solidFill>
                <a:latin typeface="Calibri"/>
              </a:rPr>
              <a:t>Un testo è essenziale se non contien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5eb8"/>
              </a:buClr>
              <a:buFont typeface="Wingdings" charset="2"/>
              <a:buChar char="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0" lang="it-IT" sz="1600" spc="-1" strike="noStrike">
                <a:solidFill>
                  <a:srgbClr val="005eb8"/>
                </a:solidFill>
                <a:latin typeface="Calibri"/>
              </a:rPr>
              <a:t>troppi aggettivi e avverbi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5eb8"/>
              </a:buClr>
              <a:buFont typeface="Wingdings" charset="2"/>
              <a:buChar char="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0" lang="it-IT" sz="1600" spc="-1" strike="noStrike">
                <a:solidFill>
                  <a:srgbClr val="005eb8"/>
                </a:solidFill>
                <a:latin typeface="Calibri"/>
              </a:rPr>
              <a:t>parole di tono troppo elevato, ricercate e solenni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5eb8"/>
              </a:buClr>
              <a:buFont typeface="Wingdings" charset="2"/>
              <a:buChar char="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0" lang="it-IT" sz="1600" spc="-1" strike="noStrike">
                <a:solidFill>
                  <a:srgbClr val="005eb8"/>
                </a:solidFill>
                <a:latin typeface="Calibri"/>
              </a:rPr>
              <a:t>parole di linguaggi tecnico-specialistici quando non necessari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5eb8"/>
              </a:buClr>
              <a:buFont typeface="Wingdings" charset="2"/>
              <a:buChar char="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0" lang="it-IT" sz="1600" spc="-1" strike="noStrike">
                <a:solidFill>
                  <a:srgbClr val="005eb8"/>
                </a:solidFill>
                <a:latin typeface="Calibri"/>
              </a:rPr>
              <a:t>formulazioni troppo minuziose; frasi prolisse, vaghe o vuote di senso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5eb8"/>
              </a:buClr>
              <a:buFont typeface="Wingdings" charset="2"/>
              <a:buChar char="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0" lang="it-IT" sz="1600" spc="-1" strike="noStrike">
                <a:solidFill>
                  <a:srgbClr val="005eb8"/>
                </a:solidFill>
                <a:latin typeface="Calibri"/>
              </a:rPr>
              <a:t>parole e locuzioni tra virgolette, usate cioè con un senso diverso da quello comun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5eb8"/>
              </a:buClr>
              <a:buFont typeface="Wingdings" charset="2"/>
              <a:buChar char="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0" lang="it-IT" sz="1600" spc="-1" strike="noStrike">
                <a:solidFill>
                  <a:srgbClr val="005eb8"/>
                </a:solidFill>
                <a:latin typeface="Calibri"/>
              </a:rPr>
              <a:t>abbreviazioni e sigle poco comun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it-IT" sz="1600" spc="-1" strike="noStrike">
                <a:solidFill>
                  <a:srgbClr val="005eb8"/>
                </a:solidFill>
                <a:latin typeface="Calibri"/>
              </a:rPr>
              <a:t>Un testo è semplice se u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5eb8"/>
              </a:buClr>
              <a:buFont typeface="Wingdings" charset="2"/>
              <a:buChar char="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0" lang="it-IT" sz="1600" spc="-1" strike="noStrike">
                <a:solidFill>
                  <a:srgbClr val="005eb8"/>
                </a:solidFill>
                <a:latin typeface="Calibri"/>
              </a:rPr>
              <a:t>parole di uso comun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5eb8"/>
              </a:buClr>
              <a:buFont typeface="Wingdings" charset="2"/>
              <a:buChar char="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0" lang="it-IT" sz="1600" spc="-1" strike="noStrike">
                <a:solidFill>
                  <a:srgbClr val="005eb8"/>
                </a:solidFill>
                <a:latin typeface="Calibri"/>
              </a:rPr>
              <a:t>parole brevi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5eb8"/>
              </a:buClr>
              <a:buFont typeface="Wingdings" charset="2"/>
              <a:buChar char="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0" lang="it-IT" sz="1600" spc="-1" strike="noStrike">
                <a:solidFill>
                  <a:srgbClr val="005eb8"/>
                </a:solidFill>
                <a:latin typeface="Calibri"/>
              </a:rPr>
              <a:t>parole di significato non ambiguo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5eb8"/>
              </a:buClr>
              <a:buFont typeface="Wingdings" charset="2"/>
              <a:buChar char="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0" lang="it-IT" sz="1600" spc="-1" strike="noStrike">
                <a:solidFill>
                  <a:srgbClr val="005eb8"/>
                </a:solidFill>
                <a:latin typeface="Calibri"/>
              </a:rPr>
              <a:t>parole di origine italiana (e non straniera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5eb8"/>
              </a:buClr>
              <a:buFont typeface="Wingdings" charset="2"/>
              <a:buChar char="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0" lang="it-IT" sz="1600" spc="-1" strike="noStrike">
                <a:solidFill>
                  <a:srgbClr val="005eb8"/>
                </a:solidFill>
                <a:latin typeface="Calibri"/>
              </a:rPr>
              <a:t>parole intere (e non abbreviazioni, sigle ecc.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5eb8"/>
              </a:buClr>
              <a:buFont typeface="Wingdings" charset="2"/>
              <a:buChar char="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0" lang="it-IT" sz="1600" spc="-1" strike="noStrike">
                <a:solidFill>
                  <a:srgbClr val="005eb8"/>
                </a:solidFill>
                <a:latin typeface="Calibri"/>
              </a:rPr>
              <a:t>parole tecnico- specialistiche necessarie e accompagnate da spiegazione breve e comprensibil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it-IT" sz="1600" spc="-1" strike="noStrike">
                <a:solidFill>
                  <a:srgbClr val="005eb8"/>
                </a:solidFill>
                <a:latin typeface="Calibri"/>
              </a:rPr>
              <a:t>Un testo è materialmente leggibile se u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005eb8"/>
              </a:buClr>
              <a:buFont typeface="Wingdings" charset="2"/>
              <a:buChar char=""/>
              <a:tabLst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0" lang="it-IT" sz="1600" spc="-1" strike="noStrike">
                <a:solidFill>
                  <a:srgbClr val="005eb8"/>
                </a:solidFill>
                <a:latin typeface="Calibri"/>
              </a:rPr>
              <a:t>alcuni accorgimenti tecnici che non sono secondari né banali. Per esempio contribuiscono a rendere più leggibile un testo anche alcuni criteri grafico-tipografici e alcuni accorgimenti redazional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uppo 12"/>
          <p:cNvGrpSpPr/>
          <p:nvPr/>
        </p:nvGrpSpPr>
        <p:grpSpPr>
          <a:xfrm>
            <a:off x="0" y="6149880"/>
            <a:ext cx="9144000" cy="766800"/>
            <a:chOff x="0" y="6149880"/>
            <a:chExt cx="9144000" cy="766800"/>
          </a:xfrm>
        </p:grpSpPr>
        <p:sp>
          <p:nvSpPr>
            <p:cNvPr id="64" name="Rettangolo 4"/>
            <p:cNvSpPr/>
            <p:nvPr/>
          </p:nvSpPr>
          <p:spPr>
            <a:xfrm>
              <a:off x="0" y="6149880"/>
              <a:ext cx="9144000" cy="766800"/>
            </a:xfrm>
            <a:prstGeom prst="rect">
              <a:avLst/>
            </a:prstGeom>
            <a:solidFill>
              <a:srgbClr val="005eb8"/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5" name="Immagine 8" descr=""/>
            <p:cNvPicPr/>
            <p:nvPr/>
          </p:nvPicPr>
          <p:blipFill>
            <a:blip r:embed="rId1"/>
            <a:stretch/>
          </p:blipFill>
          <p:spPr>
            <a:xfrm>
              <a:off x="7479360" y="6286320"/>
              <a:ext cx="1547280" cy="49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CasellaDiTesto 2"/>
          <p:cNvSpPr/>
          <p:nvPr/>
        </p:nvSpPr>
        <p:spPr>
          <a:xfrm>
            <a:off x="192240" y="2486160"/>
            <a:ext cx="875952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e75b6"/>
                </a:solidFill>
                <a:latin typeface="Calibri"/>
              </a:rPr>
              <a:t>1. </a:t>
            </a:r>
            <a:r>
              <a:rPr b="1" lang="it-IT" sz="2000" spc="-1" strike="noStrike" u="sng">
                <a:solidFill>
                  <a:srgbClr val="2e75b6"/>
                </a:solidFill>
                <a:uFillTx/>
                <a:latin typeface="Calibri"/>
              </a:rPr>
              <a:t>Forme di citazione di parti degli atti normativ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e75b6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2e75b6"/>
                </a:solidFill>
                <a:latin typeface="Calibri"/>
              </a:rPr>
              <a:t>- In grassetto è indicato il tipo di atto citat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e75b6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2e75b6"/>
                </a:solidFill>
                <a:latin typeface="Calibri"/>
              </a:rPr>
              <a:t>- la citazione contrassegnata dal simbolo # si riferisce alla forma integrale (prima citazione) e quelle contrassegnate dal simbolo * alle forme semplificate (citazioni ripetut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ttangolo 9"/>
          <p:cNvSpPr/>
          <p:nvPr/>
        </p:nvSpPr>
        <p:spPr>
          <a:xfrm>
            <a:off x="2588400" y="122724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5eb8"/>
                </a:solidFill>
                <a:latin typeface="Calibri"/>
              </a:rPr>
              <a:t>FORME DI CITAZIONE DI ATTI NORMATI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asellaDiTesto 18"/>
          <p:cNvSpPr/>
          <p:nvPr/>
        </p:nvSpPr>
        <p:spPr>
          <a:xfrm>
            <a:off x="108000" y="6240600"/>
            <a:ext cx="462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ORGANI ACCADEMICI E PROVVEDIMENTI AMMINISTRATIVI PRESSO L’UNIVERSITA’ DI PAR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ttangolo 4"/>
          <p:cNvSpPr/>
          <p:nvPr/>
        </p:nvSpPr>
        <p:spPr>
          <a:xfrm>
            <a:off x="3240" y="6083280"/>
            <a:ext cx="9144000" cy="766800"/>
          </a:xfrm>
          <a:prstGeom prst="rect">
            <a:avLst/>
          </a:prstGeom>
          <a:solidFill>
            <a:srgbClr val="005eb8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Immagine 8" descr=""/>
          <p:cNvPicPr/>
          <p:nvPr/>
        </p:nvPicPr>
        <p:blipFill>
          <a:blip r:embed="rId1"/>
          <a:stretch/>
        </p:blipFill>
        <p:spPr>
          <a:xfrm>
            <a:off x="7481880" y="6219720"/>
            <a:ext cx="1548000" cy="493920"/>
          </a:xfrm>
          <a:prstGeom prst="rect">
            <a:avLst/>
          </a:prstGeom>
          <a:ln w="0">
            <a:noFill/>
          </a:ln>
        </p:spPr>
      </p:pic>
      <p:sp>
        <p:nvSpPr>
          <p:cNvPr id="71" name="Figura a mano libera 10"/>
          <p:cNvSpPr/>
          <p:nvPr/>
        </p:nvSpPr>
        <p:spPr>
          <a:xfrm>
            <a:off x="3413160" y="372960"/>
            <a:ext cx="2236680" cy="1739880"/>
          </a:xfrm>
          <a:custGeom>
            <a:avLst/>
            <a:gdLst/>
            <a:ahLst/>
            <a:rect l="l" t="t" r="r" b="b"/>
            <a:pathLst>
              <a:path w="2236094" h="1739378">
                <a:moveTo>
                  <a:pt x="0" y="0"/>
                </a:moveTo>
                <a:lnTo>
                  <a:pt x="2236094" y="0"/>
                </a:lnTo>
                <a:lnTo>
                  <a:pt x="2236094" y="1739378"/>
                </a:lnTo>
                <a:lnTo>
                  <a:pt x="0" y="173937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CasellaDiTesto 2"/>
          <p:cNvSpPr/>
          <p:nvPr/>
        </p:nvSpPr>
        <p:spPr>
          <a:xfrm>
            <a:off x="731880" y="490680"/>
            <a:ext cx="7564320" cy="53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legge</a:t>
            </a:r>
            <a:r>
              <a:rPr b="1" lang="it-IT" sz="1500" spc="-1" strike="noStrike">
                <a:solidFill>
                  <a:srgbClr val="4472c4"/>
                </a:solidFill>
                <a:latin typeface="Calibri"/>
              </a:rPr>
              <a:t> stata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legge 23 agosto 1988, n. 400 (Disciplina dell’attività di Governo e ordinamento della presidenza del Consiglio dei ministri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SzPct val="106000"/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l. 400/198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legge 400/198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legge n. 400 del 198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legge regiona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legge regionale 8 agosto 2007, n. 21 </a:t>
            </a:r>
            <a:r>
              <a:rPr b="0" i="1" lang="it-IT" sz="1500" spc="-1" strike="noStrike">
                <a:solidFill>
                  <a:srgbClr val="2e75b6"/>
                </a:solidFill>
                <a:latin typeface="Calibri"/>
              </a:rPr>
              <a:t>(titol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l.r. 21/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legge regionale 21/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legge regionale n. 21 del 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legge provincia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legge provinciale 9 ottobre 2007, n. 8 </a:t>
            </a:r>
            <a:r>
              <a:rPr b="0" i="1" lang="it-IT" sz="1500" spc="-1" strike="noStrike">
                <a:solidFill>
                  <a:srgbClr val="2e75b6"/>
                </a:solidFill>
                <a:latin typeface="Calibri"/>
              </a:rPr>
              <a:t>(titol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l.p. 8/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legge provinciale 8/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legge provinciale n. 8 del 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decreto-legge (non ancora convertit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-legge 1 ottobre 2007, n. 159 </a:t>
            </a:r>
            <a:r>
              <a:rPr b="0" i="1" lang="it-IT" sz="1500" spc="-1" strike="noStrike">
                <a:solidFill>
                  <a:srgbClr val="2e75b6"/>
                </a:solidFill>
                <a:latin typeface="Calibri"/>
              </a:rPr>
              <a:t>(titol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.l. 159/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-legge 159/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-legge n. 159 del 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CasellaDiTesto 18"/>
          <p:cNvSpPr/>
          <p:nvPr/>
        </p:nvSpPr>
        <p:spPr>
          <a:xfrm>
            <a:off x="108000" y="6183360"/>
            <a:ext cx="462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ORGANI ACCADEMICI E PROVVEDIMENTI AMMINISTRATIVI PRESSO L’UNIVERSITA’ DI PAR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ttangolo 4"/>
          <p:cNvSpPr/>
          <p:nvPr/>
        </p:nvSpPr>
        <p:spPr>
          <a:xfrm>
            <a:off x="3240" y="6083280"/>
            <a:ext cx="9144000" cy="766800"/>
          </a:xfrm>
          <a:prstGeom prst="rect">
            <a:avLst/>
          </a:prstGeom>
          <a:solidFill>
            <a:srgbClr val="005eb8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magine 8" descr=""/>
          <p:cNvPicPr/>
          <p:nvPr/>
        </p:nvPicPr>
        <p:blipFill>
          <a:blip r:embed="rId1"/>
          <a:stretch/>
        </p:blipFill>
        <p:spPr>
          <a:xfrm>
            <a:off x="7481880" y="6219720"/>
            <a:ext cx="1548000" cy="493920"/>
          </a:xfrm>
          <a:prstGeom prst="rect">
            <a:avLst/>
          </a:prstGeom>
          <a:ln w="0">
            <a:noFill/>
          </a:ln>
        </p:spPr>
      </p:pic>
      <p:sp>
        <p:nvSpPr>
          <p:cNvPr id="76" name="Figura a mano libera 10"/>
          <p:cNvSpPr/>
          <p:nvPr/>
        </p:nvSpPr>
        <p:spPr>
          <a:xfrm>
            <a:off x="3413160" y="372960"/>
            <a:ext cx="2236680" cy="1739880"/>
          </a:xfrm>
          <a:custGeom>
            <a:avLst/>
            <a:gdLst/>
            <a:ahLst/>
            <a:rect l="l" t="t" r="r" b="b"/>
            <a:pathLst>
              <a:path w="2236094" h="1739378">
                <a:moveTo>
                  <a:pt x="0" y="0"/>
                </a:moveTo>
                <a:lnTo>
                  <a:pt x="2236094" y="0"/>
                </a:lnTo>
                <a:lnTo>
                  <a:pt x="2236094" y="1739378"/>
                </a:lnTo>
                <a:lnTo>
                  <a:pt x="0" y="173937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asellaDiTesto 2"/>
          <p:cNvSpPr/>
          <p:nvPr/>
        </p:nvSpPr>
        <p:spPr>
          <a:xfrm>
            <a:off x="700200" y="382680"/>
            <a:ext cx="7567560" cy="56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decreto-legge (convertito in legg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-legge 2 luglio 2007, n. 151 </a:t>
            </a:r>
            <a:r>
              <a:rPr b="0" i="1" lang="it-IT" sz="1500" spc="-1" strike="noStrike">
                <a:solidFill>
                  <a:srgbClr val="2e75b6"/>
                </a:solidFill>
                <a:latin typeface="Calibri"/>
              </a:rPr>
              <a:t>(titolo) </a:t>
            </a: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convertito, con modificazioni, dalla legge 3 agosto 2007, n. 12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.l. 151/2007 convertito dalla l. 127/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-legge 151/2007 convertito dalla legge 127/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-legge n. 151 del 2007 convertito dalla legge n. 127 del 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decreto legislativ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 legislativo 3 agosto 2007, n. 142 </a:t>
            </a:r>
            <a:r>
              <a:rPr b="0" i="1" lang="it-IT" sz="1500" spc="-1" strike="noStrike">
                <a:solidFill>
                  <a:srgbClr val="2e75b6"/>
                </a:solidFill>
                <a:latin typeface="Calibri"/>
              </a:rPr>
              <a:t>(titol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.lgs. 142/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 legislativo 142/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 legislativo n. 142 del 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decreto del Presidente della Repubblic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 del Presidente della Repubblica 24 luglio 1977, n. 616 </a:t>
            </a:r>
            <a:r>
              <a:rPr b="0" i="1" lang="it-IT" sz="1500" spc="-1" strike="noStrike">
                <a:solidFill>
                  <a:srgbClr val="2e75b6"/>
                </a:solidFill>
                <a:latin typeface="Calibri"/>
              </a:rPr>
              <a:t>(titol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.p.r. 616/197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 del Presidente della Repubblica 616/197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 del Presidente della Repubblica n. 616 del 197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regio decret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egio decreto 14 agosto 1920, n. 1285 </a:t>
            </a:r>
            <a:r>
              <a:rPr b="0" i="1" lang="it-IT" sz="1500" spc="-1" strike="noStrike">
                <a:solidFill>
                  <a:srgbClr val="2e75b6"/>
                </a:solidFill>
                <a:latin typeface="Calibri"/>
              </a:rPr>
              <a:t>(titol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.d. 1285/192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egio decreto 1285/192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egio decreto n. 1285 del 192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asellaDiTesto 18"/>
          <p:cNvSpPr/>
          <p:nvPr/>
        </p:nvSpPr>
        <p:spPr>
          <a:xfrm>
            <a:off x="108000" y="6183360"/>
            <a:ext cx="462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ORGANI ACCADEMICI E PROVVEDIMENTI AMMINISTRATIVI PRESSO L’UNIVERSITA’ DI PAR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ttangolo 4"/>
          <p:cNvSpPr/>
          <p:nvPr/>
        </p:nvSpPr>
        <p:spPr>
          <a:xfrm>
            <a:off x="3240" y="6083280"/>
            <a:ext cx="9144000" cy="766800"/>
          </a:xfrm>
          <a:prstGeom prst="rect">
            <a:avLst/>
          </a:prstGeom>
          <a:solidFill>
            <a:srgbClr val="005eb8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Immagine 8" descr=""/>
          <p:cNvPicPr/>
          <p:nvPr/>
        </p:nvPicPr>
        <p:blipFill>
          <a:blip r:embed="rId1"/>
          <a:stretch/>
        </p:blipFill>
        <p:spPr>
          <a:xfrm>
            <a:off x="7481880" y="6219720"/>
            <a:ext cx="1548000" cy="493920"/>
          </a:xfrm>
          <a:prstGeom prst="rect">
            <a:avLst/>
          </a:prstGeom>
          <a:ln w="0">
            <a:noFill/>
          </a:ln>
        </p:spPr>
      </p:pic>
      <p:sp>
        <p:nvSpPr>
          <p:cNvPr id="81" name="Figura a mano libera 10"/>
          <p:cNvSpPr/>
          <p:nvPr/>
        </p:nvSpPr>
        <p:spPr>
          <a:xfrm>
            <a:off x="3413160" y="372960"/>
            <a:ext cx="2236680" cy="1739880"/>
          </a:xfrm>
          <a:custGeom>
            <a:avLst/>
            <a:gdLst/>
            <a:ahLst/>
            <a:rect l="l" t="t" r="r" b="b"/>
            <a:pathLst>
              <a:path w="2236094" h="1739378">
                <a:moveTo>
                  <a:pt x="0" y="0"/>
                </a:moveTo>
                <a:lnTo>
                  <a:pt x="2236094" y="0"/>
                </a:lnTo>
                <a:lnTo>
                  <a:pt x="2236094" y="1739378"/>
                </a:lnTo>
                <a:lnTo>
                  <a:pt x="0" y="173937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CasellaDiTesto 2"/>
          <p:cNvSpPr/>
          <p:nvPr/>
        </p:nvSpPr>
        <p:spPr>
          <a:xfrm>
            <a:off x="716040" y="846000"/>
            <a:ext cx="758016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regio decreto-legg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egio decreto-legge 30 agosto 1925, n. 1261 </a:t>
            </a:r>
            <a:r>
              <a:rPr b="0" i="1" lang="it-IT" sz="1500" spc="-1" strike="noStrike">
                <a:solidFill>
                  <a:srgbClr val="2e75b6"/>
                </a:solidFill>
                <a:latin typeface="Calibri"/>
              </a:rPr>
              <a:t>(titolo), </a:t>
            </a: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convertito, con modificazioni, dalla legge 15 luglio 1926, n. 126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.d.l. 1261/1925 convertito dalla l. 1263/192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egio decreto-legge 1261/1925 convertito dalla legge 1263/192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egio decreto-legge n. 1261 del 1925 convertito dalla legge n. 1263 del 192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decreto luogotenenzia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 luogotenenziale 24 luglio 1944, n. 40 </a:t>
            </a:r>
            <a:r>
              <a:rPr b="0" i="1" lang="it-IT" sz="1500" spc="-1" strike="noStrike">
                <a:solidFill>
                  <a:srgbClr val="2e75b6"/>
                </a:solidFill>
                <a:latin typeface="Calibri"/>
              </a:rPr>
              <a:t>(titol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.lgt. 40/194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 luogotenenziale 40/1944, </a:t>
            </a:r>
            <a:r>
              <a:rPr b="0" i="1" lang="it-IT" sz="1500" spc="-1" strike="noStrike">
                <a:solidFill>
                  <a:srgbClr val="2e75b6"/>
                </a:solidFill>
                <a:latin typeface="Calibri"/>
              </a:rPr>
              <a:t>oppure</a:t>
            </a: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 * decreto luogotenenziale n. 40 del 194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decreto del Presidente del Consiglio dei ministri </a:t>
            </a: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(non numerat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 del Presidente del Consiglio dei ministri 21 settembre 2007 </a:t>
            </a:r>
            <a:r>
              <a:rPr b="0" i="1" lang="it-IT" sz="1500" spc="-1" strike="noStrike">
                <a:solidFill>
                  <a:srgbClr val="2e75b6"/>
                </a:solidFill>
                <a:latin typeface="Calibri"/>
              </a:rPr>
              <a:t>(titol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.p.c.m. 21 settembre 2007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 del Presidente del Consiglio dei ministri 21 settembre 2007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decreto del Presidente del Consiglio dei ministri (numerat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 del Presidente del Consiglio dei ministri 20 luglio 2007, n. 153 </a:t>
            </a:r>
            <a:r>
              <a:rPr b="0" i="1" lang="it-IT" sz="1500" spc="-1" strike="noStrike">
                <a:solidFill>
                  <a:srgbClr val="2e75b6"/>
                </a:solidFill>
                <a:latin typeface="Calibri"/>
              </a:rPr>
              <a:t>(titol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.p.c.m. 153/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 del Presidente del Consiglio dei ministri 153/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 del Presidente del Consiglio dei ministri n. 153 del 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asellaDiTesto 18"/>
          <p:cNvSpPr/>
          <p:nvPr/>
        </p:nvSpPr>
        <p:spPr>
          <a:xfrm>
            <a:off x="108000" y="6192720"/>
            <a:ext cx="462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ORGANI ACCADEMICI E PROVVEDIMENTI AMMINISTRATIVI PRESSO L’UNIVERSITA’ DI PAR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ttangolo 4"/>
          <p:cNvSpPr/>
          <p:nvPr/>
        </p:nvSpPr>
        <p:spPr>
          <a:xfrm>
            <a:off x="3240" y="6083280"/>
            <a:ext cx="9144000" cy="766800"/>
          </a:xfrm>
          <a:prstGeom prst="rect">
            <a:avLst/>
          </a:prstGeom>
          <a:solidFill>
            <a:srgbClr val="005eb8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Immagine 8" descr=""/>
          <p:cNvPicPr/>
          <p:nvPr/>
        </p:nvPicPr>
        <p:blipFill>
          <a:blip r:embed="rId1"/>
          <a:stretch/>
        </p:blipFill>
        <p:spPr>
          <a:xfrm>
            <a:off x="7481880" y="6219720"/>
            <a:ext cx="1548000" cy="493920"/>
          </a:xfrm>
          <a:prstGeom prst="rect">
            <a:avLst/>
          </a:prstGeom>
          <a:ln w="0">
            <a:noFill/>
          </a:ln>
        </p:spPr>
      </p:pic>
      <p:sp>
        <p:nvSpPr>
          <p:cNvPr id="86" name="Figura a mano libera 10"/>
          <p:cNvSpPr/>
          <p:nvPr/>
        </p:nvSpPr>
        <p:spPr>
          <a:xfrm>
            <a:off x="3413160" y="372960"/>
            <a:ext cx="2236680" cy="1739880"/>
          </a:xfrm>
          <a:custGeom>
            <a:avLst/>
            <a:gdLst/>
            <a:ahLst/>
            <a:rect l="l" t="t" r="r" b="b"/>
            <a:pathLst>
              <a:path w="2236094" h="1739378">
                <a:moveTo>
                  <a:pt x="0" y="0"/>
                </a:moveTo>
                <a:lnTo>
                  <a:pt x="2236094" y="0"/>
                </a:lnTo>
                <a:lnTo>
                  <a:pt x="2236094" y="1739378"/>
                </a:lnTo>
                <a:lnTo>
                  <a:pt x="0" y="173937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asellaDiTesto 2"/>
          <p:cNvSpPr/>
          <p:nvPr/>
        </p:nvSpPr>
        <p:spPr>
          <a:xfrm>
            <a:off x="736560" y="441360"/>
            <a:ext cx="7588440" cy="55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decreto ministeriale </a:t>
            </a: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(numerat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 del Ministro della Salute 30 dicembre 2005, n. 302 </a:t>
            </a:r>
            <a:r>
              <a:rPr b="0" i="1" lang="it-IT" sz="1500" spc="-1" strike="noStrike">
                <a:solidFill>
                  <a:srgbClr val="2e75b6"/>
                </a:solidFill>
                <a:latin typeface="Calibri"/>
              </a:rPr>
              <a:t>(titol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 del Ministro della Salute 302/200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 del Ministro della Salute n. 302 del 200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decreto ministeriale </a:t>
            </a: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(non numerat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 del Ministro della Salute 4 settembre 2007 </a:t>
            </a:r>
            <a:r>
              <a:rPr b="0" i="1" lang="it-IT" sz="1500" spc="-1" strike="noStrike">
                <a:solidFill>
                  <a:srgbClr val="2e75b6"/>
                </a:solidFill>
                <a:latin typeface="Calibri"/>
              </a:rPr>
              <a:t>(titol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creto del Ministro della Salute 4 settembre 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ordinanz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ordinanza del Ministro della Salute 14 febbraio 2007 </a:t>
            </a:r>
            <a:r>
              <a:rPr b="0" i="1" lang="it-IT" sz="1500" spc="-1" strike="noStrike">
                <a:solidFill>
                  <a:srgbClr val="2e75b6"/>
                </a:solidFill>
                <a:latin typeface="Calibri"/>
              </a:rPr>
              <a:t>(titol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ordinanza del Ministro della Salute 14 febbraio 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testo unic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testo unico ... emanato con decreto legislativo 18 agosto 2000, n. 267 </a:t>
            </a:r>
            <a:r>
              <a:rPr b="0" i="1" lang="it-IT" sz="1500" spc="-1" strike="noStrike">
                <a:solidFill>
                  <a:srgbClr val="2e75b6"/>
                </a:solidFill>
                <a:latin typeface="Calibri"/>
              </a:rPr>
              <a:t>(titol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t.u. ... emanato con d.lgs. 267/20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testo unico ... emanato con decreto legislativo 267/20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testo unico ... emanato con decreto legislativo n. 267 del 200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regolamento governativ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egolamento emanato con decreto del Presidente della Repubblica 2 agosto 2007, n. 157 </a:t>
            </a:r>
            <a:r>
              <a:rPr b="0" i="1" lang="it-IT" sz="1500" spc="-1" strike="noStrike">
                <a:solidFill>
                  <a:srgbClr val="2e75b6"/>
                </a:solidFill>
                <a:latin typeface="Calibri"/>
              </a:rPr>
              <a:t>(titol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egolamento emanato con d.p.r. 157/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egolamento emanato con decreto del Presidente della Repubblica 157/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egolamento emanato con decreto del Presidente della Repubblica n. 157 del 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asellaDiTesto 18"/>
          <p:cNvSpPr/>
          <p:nvPr/>
        </p:nvSpPr>
        <p:spPr>
          <a:xfrm>
            <a:off x="108000" y="6192720"/>
            <a:ext cx="462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ORGANI ACCADEMICI E PROVVEDIMENTI AMMINISTRATIVI PRESSO L’UNIVERSITA’ DI PAR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ttangolo 4"/>
          <p:cNvSpPr/>
          <p:nvPr/>
        </p:nvSpPr>
        <p:spPr>
          <a:xfrm>
            <a:off x="3240" y="6083280"/>
            <a:ext cx="9144000" cy="766800"/>
          </a:xfrm>
          <a:prstGeom prst="rect">
            <a:avLst/>
          </a:prstGeom>
          <a:solidFill>
            <a:srgbClr val="005eb8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Immagine 8" descr=""/>
          <p:cNvPicPr/>
          <p:nvPr/>
        </p:nvPicPr>
        <p:blipFill>
          <a:blip r:embed="rId1"/>
          <a:stretch/>
        </p:blipFill>
        <p:spPr>
          <a:xfrm>
            <a:off x="7481880" y="6219720"/>
            <a:ext cx="1548000" cy="493920"/>
          </a:xfrm>
          <a:prstGeom prst="rect">
            <a:avLst/>
          </a:prstGeom>
          <a:ln w="0">
            <a:noFill/>
          </a:ln>
        </p:spPr>
      </p:pic>
      <p:sp>
        <p:nvSpPr>
          <p:cNvPr id="91" name="Figura a mano libera 10"/>
          <p:cNvSpPr/>
          <p:nvPr/>
        </p:nvSpPr>
        <p:spPr>
          <a:xfrm>
            <a:off x="3413160" y="372960"/>
            <a:ext cx="2236680" cy="1739880"/>
          </a:xfrm>
          <a:custGeom>
            <a:avLst/>
            <a:gdLst/>
            <a:ahLst/>
            <a:rect l="l" t="t" r="r" b="b"/>
            <a:pathLst>
              <a:path w="2236094" h="1739378">
                <a:moveTo>
                  <a:pt x="0" y="0"/>
                </a:moveTo>
                <a:lnTo>
                  <a:pt x="2236094" y="0"/>
                </a:lnTo>
                <a:lnTo>
                  <a:pt x="2236094" y="1739378"/>
                </a:lnTo>
                <a:lnTo>
                  <a:pt x="0" y="173937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asellaDiTesto 2"/>
          <p:cNvSpPr/>
          <p:nvPr/>
        </p:nvSpPr>
        <p:spPr>
          <a:xfrm>
            <a:off x="676440" y="122400"/>
            <a:ext cx="7589520" cy="57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regolamenti ministeriali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egolamento adottato con decreto del Ministro della Salute 23 luglio 2002, n. 206 </a:t>
            </a:r>
            <a:r>
              <a:rPr b="0" i="1" lang="it-IT" sz="1500" spc="-1" strike="noStrike">
                <a:solidFill>
                  <a:srgbClr val="2e75b6"/>
                </a:solidFill>
                <a:latin typeface="Calibri"/>
              </a:rPr>
              <a:t>(titol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egolamento adottato con decreto del Ministro della Salute 206/2002</a:t>
            </a:r>
            <a:r>
              <a:rPr b="0" i="1" lang="it-IT" sz="1500" spc="-1" strike="noStrike">
                <a:solidFill>
                  <a:srgbClr val="2e75b6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egolamento adottato con decreto del Ministro della Salute n. 206 del 200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deliberazione del Comitato interministeriale per la programmazione economica  (o altri comitati interministeriali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liberazione del Comitato interministeriale per la programmazione economica 20 luglio 2007, n. 59 </a:t>
            </a:r>
            <a:r>
              <a:rPr b="0" i="1" lang="it-IT" sz="1500" spc="-1" strike="noStrike">
                <a:solidFill>
                  <a:srgbClr val="2e75b6"/>
                </a:solidFill>
                <a:latin typeface="Calibri"/>
              </a:rPr>
              <a:t>(titol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liberazione CIPE 59/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liberazione del Comitato interministeriale per la programmazione economica n. 59 del 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regolamento regiona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egolamento regionale 25 novembre 1998, n. 4 (titol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egolamento regionale 4/1998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regolamento regionale n. 4 del 1998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deliberazione del Consiglio regional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liberazione del Consiglio regionale 30 gennaio 2007, n. 58 (titol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liberazione del Consiglio regionale 58/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liberazione del Consiglio</a:t>
            </a:r>
            <a:r>
              <a:rPr b="0" lang="it-IT" sz="1300" spc="-1" strike="noStrike">
                <a:solidFill>
                  <a:srgbClr val="2e75b6"/>
                </a:solidFill>
                <a:latin typeface="Calibri"/>
              </a:rPr>
              <a:t> regionale n. 58 del 2007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2e75b6"/>
                </a:solidFill>
                <a:latin typeface="Calibri"/>
              </a:rPr>
              <a:t>deliberazione della Giunta regional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liberazione della Giunta regionale 22 agosto 2007, n. 864 (titolo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liberazione della Giunta regionale 864/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2e75b6"/>
              </a:buClr>
              <a:buFont typeface="Calibri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2e75b6"/>
                </a:solidFill>
                <a:latin typeface="Calibri"/>
              </a:rPr>
              <a:t>deliberazione della Giunta regionale n. 864 del 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asellaDiTesto 18"/>
          <p:cNvSpPr/>
          <p:nvPr/>
        </p:nvSpPr>
        <p:spPr>
          <a:xfrm>
            <a:off x="108000" y="6192720"/>
            <a:ext cx="462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ORGANI ACCADEMICI E PROVVEDIMENTI AMMINISTRATIVI PRESSO L’UNIVERSITA’ DI PAR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13:19:46Z</dcterms:created>
  <dc:creator>Utente di Microsoft Office</dc:creator>
  <dc:description/>
  <dc:language>en-US</dc:language>
  <cp:lastModifiedBy>Maria Dramis</cp:lastModifiedBy>
  <cp:lastPrinted>2018-01-31T12:40:54Z</cp:lastPrinted>
  <dcterms:modified xsi:type="dcterms:W3CDTF">2019-01-11T15:14:28Z</dcterms:modified>
  <cp:revision>236</cp:revision>
  <dc:subject/>
  <dc:title>Presentazione di PowerPoint</dc:title>
</cp:coreProperties>
</file>